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AD4A-B881-413F-B2A0-B9583CEAF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E37C-F2F6-42CC-83D3-AD8861C5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B8CE-FC51-4D42-8C48-9AEC9EC5C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9251-DF87-4447-BF9F-61F6071AF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C704-41D8-4331-8C42-AA187F45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8A3C-C8B2-449D-BDB8-ACD9E3F1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B317-1002-4787-BBAF-F19AD5DD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762E-B296-448F-BACB-1A0669CA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579C-DCAA-4251-9574-2C25EF89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C3EC-461A-4BEA-AF94-D782A919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7856-BF29-47A4-93C1-32E659BA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21E7-E70C-4C1B-A9FC-72C8C735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EA36-872C-4870-9D5A-04D3492E8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5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4.xml"/><Relationship Id="rId11" Type="http://schemas.openxmlformats.org/officeDocument/2006/relationships/slide" Target="slide18.xml"/><Relationship Id="rId12" Type="http://schemas.openxmlformats.org/officeDocument/2006/relationships/slide" Target="slide3.xml"/><Relationship Id="rId13" Type="http://schemas.openxmlformats.org/officeDocument/2006/relationships/slide" Target="slide11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9.xml"/><Relationship Id="rId18" Type="http://schemas.openxmlformats.org/officeDocument/2006/relationships/slide" Target="slide17.xml"/><Relationship Id="rId19" Type="http://schemas.openxmlformats.org/officeDocument/2006/relationships/slide" Target="slide8.xml"/><Relationship Id="rId20" Type="http://schemas.openxmlformats.org/officeDocument/2006/relationships/slide" Target="slide7.xml"/><Relationship Id="rId21" Type="http://schemas.openxmlformats.org/officeDocument/2006/relationships/slide" Target="slide6.xml"/><Relationship Id="rId22" Type="http://schemas.openxmlformats.org/officeDocument/2006/relationships/slide" Target="slide19.xml"/><Relationship Id="rId23" Type="http://schemas.openxmlformats.org/officeDocument/2006/relationships/slide" Target="slide19.xml"/><Relationship Id="rId24" Type="http://schemas.openxmlformats.org/officeDocument/2006/relationships/slide" Target="slide20.xml"/><Relationship Id="rId25" Type="http://schemas.openxmlformats.org/officeDocument/2006/relationships/slide" Target="slide21.xml"/><Relationship Id="rId26" Type="http://schemas.openxmlformats.org/officeDocument/2006/relationships/slide" Target="slide22.xml"/><Relationship Id="rId27" Type="http://schemas.openxmlformats.org/officeDocument/2006/relationships/slide" Target="slide3.xml"/><Relationship Id="rId2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s. Jad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17524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152280"/>
            <a:ext cx="7162560" cy="13816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civilization took over Ancient Egypt during the Middle Kingdo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63920" y="2971800"/>
            <a:ext cx="262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Hyks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15238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l of the organs had to be remov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CEPT for the heart, whic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mained ins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228600"/>
            <a:ext cx="731520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needed to happen to the organs before a pharaoh could be mummified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18288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30492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Phoaroah joined Upper and Lower Egypt for the first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15238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228600"/>
            <a:ext cx="716256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ere the three cities that were created during Mesopotamian tim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19320" y="2876400"/>
            <a:ext cx="50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mer, Akkad, Babyl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1" action="ppaction://hlinksldjump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2362320"/>
            <a:ext cx="7162920" cy="3504960"/>
          </a:xfrm>
          <a:prstGeom prst="wedgeRectCallout">
            <a:avLst>
              <a:gd name="adj1" fmla="val -21231"/>
              <a:gd name="adj2" fmla="val 5254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228600"/>
            <a:ext cx="7162920" cy="19378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ncient times Egypt was divided into _______ se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ere they cal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57520" y="2971800"/>
            <a:ext cx="5594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wo secti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pper and Lower Egyp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18288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araoh Kufu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80880"/>
            <a:ext cx="9144000" cy="1015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was the Great Pyramid built for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1981080"/>
            <a:ext cx="7162920" cy="3124440"/>
          </a:xfrm>
          <a:prstGeom prst="wedgeRectCallout">
            <a:avLst>
              <a:gd name="adj1" fmla="val -21231"/>
              <a:gd name="adj2" fmla="val -20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means they believed in more th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e g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304920"/>
            <a:ext cx="7162920" cy="11912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ncient Egyptians were polytheistic, what does that me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1600200"/>
            <a:ext cx="7162560" cy="3505320"/>
          </a:xfrm>
          <a:prstGeom prst="wedgeRectCallout">
            <a:avLst>
              <a:gd name="adj1" fmla="val -21231"/>
              <a:gd name="adj2" fmla="val 52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mmurabi created the fir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ver uniform code of laws. 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as extremely important beca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the first time all city – st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d the same basic ru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228600"/>
            <a:ext cx="7162920" cy="1015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was Hammurabi’s code of laws so import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rId1" action="ppaction://hlinksldjump"/>
          </p:cNvPr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6765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rib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22860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itizens of Egypt and Mesopotamia called if they could wri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17524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mummy of King Tut.  It w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 important because it was f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touched and preserved wit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thing missing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228600"/>
            <a:ext cx="7086600" cy="11912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ummy of which Pharaoh was found in 1922 by Howard Car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was this so import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6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1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0"/>
            <a:ext cx="1981080" cy="7038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mmies and Pyram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0" y="0"/>
            <a:ext cx="205740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aroahs and Reli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0"/>
            <a:ext cx="205740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sopota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0"/>
            <a:ext cx="198108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x it UP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2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3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5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6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7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8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9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0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1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5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26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2286000"/>
            <a:ext cx="7162560" cy="3429000"/>
          </a:xfrm>
          <a:prstGeom prst="wedgeRectCallout">
            <a:avLst>
              <a:gd name="adj1" fmla="val -21231"/>
              <a:gd name="adj2" fmla="val 425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as the name of the Sun God in Ancient Egpy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2133720"/>
            <a:ext cx="7162560" cy="3657600"/>
          </a:xfrm>
          <a:prstGeom prst="wedgeRectCallout">
            <a:avLst>
              <a:gd name="adj1" fmla="val -21231"/>
              <a:gd name="adj2" fmla="val 295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kkad was the only empire.  T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re no separate city – stat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228600"/>
            <a:ext cx="7086600" cy="17474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the period of Akkad there was something very different than what existed in Sumer and Babylon.  What was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1523880"/>
            <a:ext cx="7086600" cy="4267440"/>
          </a:xfrm>
          <a:prstGeom prst="wedgeRectCallout">
            <a:avLst>
              <a:gd name="adj1" fmla="val -21999"/>
              <a:gd name="adj2" fmla="val 4538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 helped the Mesopotami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eep track of the trade of the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oods, and allowed them 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mmunicate through writt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nguage for the first ti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was cuneiform writing import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57200" y="304920"/>
            <a:ext cx="8153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merigo BT"/>
              </a:rPr>
              <a:t>FINAL JEOPARD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3809880"/>
            <a:ext cx="761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eams make your final wagers!!!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1066680"/>
            <a:ext cx="7696080" cy="37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story of Isis and Osiris what FOUR main characters were involved?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was the relationship between these four character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o is considered “the bad guy” because he committed a murd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1828800"/>
            <a:ext cx="7162920" cy="3581280"/>
          </a:xfrm>
          <a:prstGeom prst="wedgeRectCallout">
            <a:avLst>
              <a:gd name="adj1" fmla="val -21231"/>
              <a:gd name="adj2" fmla="val 620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es.  Because they mummifi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ir dead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28600"/>
            <a:ext cx="7086600" cy="1015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d the people of Ancient Egypt believe in an afterlif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, how do we know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1371600"/>
            <a:ext cx="7162920" cy="4038480"/>
          </a:xfrm>
          <a:prstGeom prst="wedgeRectCallout">
            <a:avLst>
              <a:gd name="adj1" fmla="val -38254"/>
              <a:gd name="adj2" fmla="val -15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Pharoa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228600"/>
            <a:ext cx="708660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had all of the power in the Old Kingdom of Ancient Egyp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1371600"/>
            <a:ext cx="7162560" cy="4038480"/>
          </a:xfrm>
          <a:prstGeom prst="wedgeRectCallout">
            <a:avLst>
              <a:gd name="adj1" fmla="val -21231"/>
              <a:gd name="adj2" fmla="val -1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Tigris and Euphrate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0"/>
            <a:ext cx="8381880" cy="1015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wo rivers surrounded Mesopotam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13716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neifor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4572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esopotamia their writing was called w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tombs of importa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gyptians, such as pharaohs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38088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as put INSIDE pyrami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676520"/>
            <a:ext cx="7162920" cy="4038480"/>
          </a:xfrm>
          <a:prstGeom prst="wedgeRectCallout">
            <a:avLst>
              <a:gd name="adj1" fmla="val -21231"/>
              <a:gd name="adj2" fmla="val -393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 they could be preserved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gnized by the gods in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fterlif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228600"/>
            <a:ext cx="7162560" cy="11912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did ancient Egyptians mummify peop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17524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 class housing w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rthest,then middl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housing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irst class housing w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st to the center of the c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as the order of housing in ancient Mesopota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Cecil County</cp:lastModifiedBy>
  <cp:lastPrinted>2001-01-31T16:21:13Z</cp:lastPrinted>
  <dcterms:modified xsi:type="dcterms:W3CDTF">2008-10-23T13:35:53Z</dcterms:modified>
  <cp:revision>66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